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A8AA-A767-4930-A1E3-B7686C3608C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8BFA-278C-4C6F-B4A4-6F46C85F7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E3DF-DFF5-4AE5-8AE1-FB3D4F2ED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F2C-8595-41D9-BBAB-653FCF1A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587-148A-4772-B2FE-B473791C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43D-BF0C-4A18-9FC4-0CECAE62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676-7B9A-49A1-837C-8094044B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4D8-7581-492C-9A5E-11A9D0E0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F25-CB33-4562-B889-02057323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835-EFDC-4A1D-B4AE-A137DF88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316-19D1-4210-915E-EE7B58CF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8BD-2CEE-4A4F-97D0-2398CBFE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8BE-3FE3-43C2-8962-E2A8B537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1CB-7029-4DC4-AE7D-9B5FA2DE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CA5-B95E-4A1A-9167-183C3740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FF2E-B49C-4896-A3AA-68531C9AF8A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3.7 Canada’s First 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riginal Traditional Hou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ngho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longhouses2"/>
          <p:cNvPicPr/>
          <p:nvPr/>
        </p:nvPicPr>
        <p:blipFill>
          <a:blip r:embed="rId1"/>
          <a:stretch/>
        </p:blipFill>
        <p:spPr>
          <a:xfrm>
            <a:off x="0" y="3009960"/>
            <a:ext cx="5219640" cy="3848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292720" y="1916280"/>
            <a:ext cx="367200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Long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ies lived together and shared resources.  Open fires provided heat and cooking fac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Inside_Longhouse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1. Long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nghouses could be 200 feet long, 20 feet wide, and 20 feet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side the longhouse, raised platforms created a second story, which was used for sleeping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ts and wood screens divided the longhouse into separate roo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1. Long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3419640" cy="367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388944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boriginal Traditional Hou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Wigw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3311640" cy="345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81644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2. Wigw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igwams are small houses, usually 8-10 feet t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igwams are made of wooden frames which are covered with woven mats and sheets of birch b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frame can be shaped like a dome, like a cone, or like a rectangle with an arched ro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2. Wigw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ce the birch bark is in place, ropes or strips of wood are wrapped around the wigwam to hold the bark in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igwams are good houses for people who stay in the same place for months at a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igwams are not portable, but they are small and easy to bu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boriginal Traditional Hou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Arctic Igl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4105080" cy="403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4356000" y="2205000"/>
            <a:ext cx="46800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3. Arctic Iglo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Igloos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(or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Iglu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) are sno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uses used by the Inu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(Eskimos) of northern Cana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igloo is dome-shaped and slightly excavated, but it is built from the snow, with large blocks of ice set in a spiral pattern and packed with snow to form the do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3348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3. Arctic Iglo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gloos are good houses fo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the polar region, where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arth is frozen, the snow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cover is deep, and there ar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few tr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now is a good insulator, an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ense blocks of ice offer goo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rotection against the arcti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ind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568840" y="1413000"/>
            <a:ext cx="3575160" cy="280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435640" y="4292640"/>
            <a:ext cx="3708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earning Goals for This Chap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ok at population patterns of Aboriginal Peo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 land claims are changing the future for Canada’s first nations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ifficulties of building human systems in Nunav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boriginal Traditional Hou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ep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143160" cy="390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467964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4. Tep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tepee is made of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ne-shaped wooden fra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ith a covering of buffalo h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ike modern tents, tepe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re carefully designed to s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p and break down quick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508720" y="3573360"/>
            <a:ext cx="35146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4. Tep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 a tribe moved from pl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 place, each family woul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ring their tipi poles and h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ent along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epees are good houses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ople who are always on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5867280" y="1989000"/>
            <a:ext cx="3097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4. Tep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 were fewer trees 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Great Plains than in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oodlands, so it was importa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Plains tribes to carry the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ng poles with them whene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traveled instead of try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 find new ones each time the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v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5904000" y="2492280"/>
            <a:ext cx="324000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rms to Rememb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Aboriginal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people w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re descend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rom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habitants of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Canada Aboriginal Peoples are generally divided into three groups (First Nations, Inuit, Met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708360" y="1197000"/>
            <a:ext cx="5283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rms to 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First 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fers to all Aboriginal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cept Metis 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anada who l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uth of the Arc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ast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859280" y="1341360"/>
            <a:ext cx="428472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rms to 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Status Ind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person who is registered as an Indian under the Indian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64803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rms to 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Non-Status Ind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 Indian person who is not registered under the Indian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rms to 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reaty Ind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irst Nations people who belong to a First Nation that signed a treaty with the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rms to 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In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se people are the people who live in the Arctic region of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08000" y="3573360"/>
            <a:ext cx="395928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4427640" y="3573360"/>
            <a:ext cx="453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rms to 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Me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scendants of European Fur traders and explorers who married First Nations Peo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2952720" cy="331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34560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4:04:34Z</dcterms:created>
  <dc:creator>Jason</dc:creator>
  <dc:description/>
  <dc:language>en-US</dc:language>
  <cp:lastModifiedBy>Jason</cp:lastModifiedBy>
  <dcterms:modified xsi:type="dcterms:W3CDTF">2011-05-12T15:32:11Z</dcterms:modified>
  <cp:revision>9</cp:revision>
  <dc:subject/>
  <dc:title>3.7 Canada’s First Nations</dc:title>
</cp:coreProperties>
</file>